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D0CA-17C3-40D2-921B-AFD1A5557EB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DB10-ACDC-4447-BD4E-5AEE2D592C0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A1D-F014-463A-A93F-826B0F0D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491-171D-4248-BBEE-9B929BF5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F82-3B3C-432D-953B-4C9B6821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BF7-5FC3-4375-847F-57BF2757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B94-690B-4EC4-9A65-7F3C2CD5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55A-227D-421E-8137-A2480868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20C-974E-43E7-AA7B-5F15A432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444-9B14-4127-A883-F69CB828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DB4-C75C-4A5A-8A14-B13E28F5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92C-C1CF-4999-8C02-161C462A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4C2-21E2-450A-8B57-67E327D0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E22-0A5F-4BC1-B540-B38E119C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D17C-BDCF-4FEC-A245-92A22E035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_WUR_kl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2"/>
          <p:cNvGrpSpPr/>
          <p:nvPr/>
        </p:nvGrpSpPr>
        <p:grpSpPr>
          <a:xfrm>
            <a:off x="7162920" y="5943600"/>
            <a:ext cx="1600200" cy="838080"/>
            <a:chOff x="7162920" y="5943600"/>
            <a:chExt cx="1600200" cy="838080"/>
          </a:xfrm>
        </p:grpSpPr>
        <p:sp>
          <p:nvSpPr>
            <p:cNvPr id="7" name="Rectangle 3"/>
            <p:cNvSpPr/>
            <p:nvPr/>
          </p:nvSpPr>
          <p:spPr>
            <a:xfrm>
              <a:off x="7241760" y="6181560"/>
              <a:ext cx="45864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4"/>
            <p:cNvSpPr/>
            <p:nvPr/>
          </p:nvSpPr>
          <p:spPr>
            <a:xfrm>
              <a:off x="7977240" y="6181560"/>
              <a:ext cx="70668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5"/>
            <p:cNvSpPr/>
            <p:nvPr/>
          </p:nvSpPr>
          <p:spPr>
            <a:xfrm>
              <a:off x="7209360" y="6628680"/>
              <a:ext cx="150732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Picture 6" descr="logo"/>
            <p:cNvPicPr/>
            <p:nvPr/>
          </p:nvPicPr>
          <p:blipFill>
            <a:blip r:embed="rId3"/>
            <a:stretch/>
          </p:blipFill>
          <p:spPr>
            <a:xfrm>
              <a:off x="7162920" y="5943600"/>
              <a:ext cx="160020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kalyan.chakravarthy@yesbank.i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anging economic outlook 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mplications for Agriculture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240" y="44956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lyan Chakrava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e 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5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600200" y="3200400"/>
            <a:ext cx="5867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ibusiness Forum –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trition security is a cause of con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405080" y="1482840"/>
            <a:ext cx="633240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976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rica is well positioned to meet these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3 countries with unique value pro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mass greater than USA, China and Europe comb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rowded space” of opportunities for water,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 drivers stronger than any other nation (including India and Ch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rading partner for the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 provides 18% of the USA oil supply compared with 16% from the Middle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insulated from global credit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rica is well positioned to meet these challeng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932040" y="1593720"/>
            <a:ext cx="727848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leashing the true potential of Africa – Key imper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farming methods may look sustainable but are often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just the quantum of production but the nature and quality of production would b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with the demand side of the food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 and training of all key stakeholders in sustainable farming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 to deal with extreme climate conditions will be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lyan.chakravarthy@yesbank.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griculture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is on the ris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03120" y="1230480"/>
            <a:ext cx="85377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is on the rise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39720" y="1708200"/>
            <a:ext cx="5684760" cy="4159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6705720" y="2209680"/>
            <a:ext cx="19047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6324480" y="2492280"/>
            <a:ext cx="26672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population increases by 200,000 people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mn Chinese urbanise every 1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48006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is urbaniz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2g_URBAN_DELTAS"/>
          <p:cNvPicPr/>
          <p:nvPr/>
        </p:nvPicPr>
        <p:blipFill>
          <a:blip r:embed="rId1"/>
          <a:stretch/>
        </p:blipFill>
        <p:spPr>
          <a:xfrm>
            <a:off x="4152960" y="285840"/>
            <a:ext cx="4991040" cy="2652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646600" y="3213000"/>
            <a:ext cx="3503880" cy="289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268200" y="1332000"/>
            <a:ext cx="3656160" cy="24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0" anchor="t">
            <a:noAutofit/>
          </a:bodyPr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opoles are the nod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network econom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nowledge and creativity are the crusial assets in the  network economy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CT is key driving fac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95200" y="3394080"/>
            <a:ext cx="50389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0" anchor="t">
            <a:noAutofit/>
          </a:bodyPr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o production is in transition towards urban agricult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tinction between urb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ural areas within metropoles is vanis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organisation of industrial agro production systems is still based on traditional land dependant fo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od consumption pattern is chang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ing global population and rising GDP per capita is pushing up overall food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banisation and a newly-forming middle class especially in China and India has resulted in shifting food habits and dietary prefere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ed demand for high value processed foods, meat, fruits and vege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t consumption in China has increased four fold (from 10kg per capita per annum to 40kg in less than a dec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6"/>
          <p:cNvGrpSpPr/>
          <p:nvPr/>
        </p:nvGrpSpPr>
        <p:grpSpPr>
          <a:xfrm>
            <a:off x="3962520" y="2057400"/>
            <a:ext cx="5104800" cy="3969000"/>
            <a:chOff x="3962520" y="2057400"/>
            <a:chExt cx="5104800" cy="3969000"/>
          </a:xfrm>
        </p:grpSpPr>
        <p:sp>
          <p:nvSpPr>
            <p:cNvPr id="73" name="Rectangle 7"/>
            <p:cNvSpPr/>
            <p:nvPr/>
          </p:nvSpPr>
          <p:spPr>
            <a:xfrm>
              <a:off x="6498000" y="20574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4631040" y="22586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4631040" y="24616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0"/>
            <p:cNvSpPr/>
            <p:nvPr/>
          </p:nvSpPr>
          <p:spPr>
            <a:xfrm>
              <a:off x="4010400" y="4003560"/>
              <a:ext cx="987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airy, Meat, Fish, Fresh Fruit Juices, Bever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4631040" y="28630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8578800" y="55998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4631040" y="57729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14"/>
            <p:cNvGrpSpPr/>
            <p:nvPr/>
          </p:nvGrpSpPr>
          <p:grpSpPr>
            <a:xfrm>
              <a:off x="5125320" y="4802760"/>
              <a:ext cx="794880" cy="467640"/>
              <a:chOff x="5125320" y="4802760"/>
              <a:chExt cx="794880" cy="467640"/>
            </a:xfrm>
          </p:grpSpPr>
          <p:sp>
            <p:nvSpPr>
              <p:cNvPr id="81" name="Oval 15"/>
              <p:cNvSpPr/>
              <p:nvPr/>
            </p:nvSpPr>
            <p:spPr>
              <a:xfrm>
                <a:off x="5125320" y="4802760"/>
                <a:ext cx="794880" cy="467640"/>
              </a:xfrm>
              <a:prstGeom prst="ellipse">
                <a:avLst/>
              </a:prstGeom>
              <a:solidFill>
                <a:srgbClr val="33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5125320" y="4802760"/>
                <a:ext cx="794880" cy="467640"/>
              </a:xfrm>
              <a:prstGeom prst="ellipse">
                <a:avLst/>
              </a:prstGeom>
              <a:solidFill>
                <a:srgbClr val="333399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17"/>
            <p:cNvSpPr/>
            <p:nvPr/>
          </p:nvSpPr>
          <p:spPr>
            <a:xfrm>
              <a:off x="5723280" y="4974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4968360" y="2301480"/>
              <a:ext cx="61560" cy="314964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4998600" y="2284920"/>
              <a:ext cx="3993480" cy="316368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998600" y="2836080"/>
              <a:ext cx="3947400" cy="144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5733000" y="2301480"/>
              <a:ext cx="720" cy="314316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6468480" y="2301480"/>
              <a:ext cx="0" cy="314316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7201800" y="2301480"/>
              <a:ext cx="720" cy="314316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8028360" y="2301480"/>
              <a:ext cx="1080" cy="314316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25"/>
            <p:cNvGrpSpPr/>
            <p:nvPr/>
          </p:nvGrpSpPr>
          <p:grpSpPr>
            <a:xfrm>
              <a:off x="5905800" y="3747960"/>
              <a:ext cx="986040" cy="526680"/>
              <a:chOff x="5905800" y="3747960"/>
              <a:chExt cx="986040" cy="526680"/>
            </a:xfrm>
          </p:grpSpPr>
          <p:sp>
            <p:nvSpPr>
              <p:cNvPr id="92" name="Oval 26"/>
              <p:cNvSpPr/>
              <p:nvPr/>
            </p:nvSpPr>
            <p:spPr>
              <a:xfrm>
                <a:off x="5905800" y="3747960"/>
                <a:ext cx="986040" cy="526680"/>
              </a:xfrm>
              <a:prstGeom prst="ellipse">
                <a:avLst/>
              </a:prstGeom>
              <a:solidFill>
                <a:srgbClr val="33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27"/>
              <p:cNvSpPr/>
              <p:nvPr/>
            </p:nvSpPr>
            <p:spPr>
              <a:xfrm>
                <a:off x="5905800" y="3747960"/>
                <a:ext cx="986040" cy="526680"/>
              </a:xfrm>
              <a:prstGeom prst="ellipse">
                <a:avLst/>
              </a:prstGeom>
              <a:solidFill>
                <a:srgbClr val="ff99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Rectangle 28"/>
            <p:cNvSpPr/>
            <p:nvPr/>
          </p:nvSpPr>
          <p:spPr>
            <a:xfrm>
              <a:off x="6570720" y="38667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29"/>
            <p:cNvGrpSpPr/>
            <p:nvPr/>
          </p:nvGrpSpPr>
          <p:grpSpPr>
            <a:xfrm>
              <a:off x="6743160" y="2967840"/>
              <a:ext cx="763560" cy="546480"/>
              <a:chOff x="6743160" y="2967840"/>
              <a:chExt cx="763560" cy="546480"/>
            </a:xfrm>
          </p:grpSpPr>
          <p:sp>
            <p:nvSpPr>
              <p:cNvPr id="96" name="Oval 30"/>
              <p:cNvSpPr/>
              <p:nvPr/>
            </p:nvSpPr>
            <p:spPr>
              <a:xfrm>
                <a:off x="6743160" y="2967840"/>
                <a:ext cx="763560" cy="546480"/>
              </a:xfrm>
              <a:prstGeom prst="ellipse">
                <a:avLst/>
              </a:prstGeom>
              <a:solidFill>
                <a:srgbClr val="33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1"/>
              <p:cNvSpPr/>
              <p:nvPr/>
            </p:nvSpPr>
            <p:spPr>
              <a:xfrm>
                <a:off x="6743160" y="2967840"/>
                <a:ext cx="763560" cy="546480"/>
              </a:xfrm>
              <a:prstGeom prst="ellipse">
                <a:avLst/>
              </a:prstGeom>
              <a:solidFill>
                <a:srgbClr val="333399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Rectangle 32"/>
            <p:cNvSpPr/>
            <p:nvPr/>
          </p:nvSpPr>
          <p:spPr>
            <a:xfrm>
              <a:off x="7197840" y="32194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33"/>
            <p:cNvGrpSpPr/>
            <p:nvPr/>
          </p:nvGrpSpPr>
          <p:grpSpPr>
            <a:xfrm>
              <a:off x="7795080" y="2341440"/>
              <a:ext cx="1272240" cy="761400"/>
              <a:chOff x="7795080" y="2341440"/>
              <a:chExt cx="1272240" cy="761400"/>
            </a:xfrm>
          </p:grpSpPr>
          <p:sp>
            <p:nvSpPr>
              <p:cNvPr id="100" name="Oval 34"/>
              <p:cNvSpPr/>
              <p:nvPr/>
            </p:nvSpPr>
            <p:spPr>
              <a:xfrm>
                <a:off x="7795080" y="2341440"/>
                <a:ext cx="1272240" cy="761400"/>
              </a:xfrm>
              <a:prstGeom prst="ellipse">
                <a:avLst/>
              </a:prstGeom>
              <a:solidFill>
                <a:srgbClr val="3333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35"/>
              <p:cNvSpPr/>
              <p:nvPr/>
            </p:nvSpPr>
            <p:spPr>
              <a:xfrm>
                <a:off x="7795080" y="2341440"/>
                <a:ext cx="1272240" cy="761400"/>
              </a:xfrm>
              <a:prstGeom prst="ellipse">
                <a:avLst/>
              </a:prstGeom>
              <a:solidFill>
                <a:srgbClr val="333399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Rectangle 36"/>
            <p:cNvSpPr/>
            <p:nvPr/>
          </p:nvSpPr>
          <p:spPr>
            <a:xfrm>
              <a:off x="8597880" y="2748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7"/>
            <p:cNvSpPr/>
            <p:nvPr/>
          </p:nvSpPr>
          <p:spPr>
            <a:xfrm>
              <a:off x="4993920" y="5412600"/>
              <a:ext cx="3952080" cy="8604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8"/>
            <p:cNvSpPr/>
            <p:nvPr/>
          </p:nvSpPr>
          <p:spPr>
            <a:xfrm>
              <a:off x="4998600" y="4592520"/>
              <a:ext cx="3947400" cy="108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9"/>
            <p:cNvSpPr/>
            <p:nvPr/>
          </p:nvSpPr>
          <p:spPr>
            <a:xfrm>
              <a:off x="4998600" y="3413520"/>
              <a:ext cx="3947400" cy="108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0"/>
            <p:cNvSpPr/>
            <p:nvPr/>
          </p:nvSpPr>
          <p:spPr>
            <a:xfrm>
              <a:off x="5502600" y="56206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1"/>
            <p:cNvSpPr/>
            <p:nvPr/>
          </p:nvSpPr>
          <p:spPr>
            <a:xfrm>
              <a:off x="6243840" y="56901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2"/>
            <p:cNvSpPr/>
            <p:nvPr/>
          </p:nvSpPr>
          <p:spPr>
            <a:xfrm>
              <a:off x="7201080" y="5559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3"/>
            <p:cNvSpPr/>
            <p:nvPr/>
          </p:nvSpPr>
          <p:spPr>
            <a:xfrm>
              <a:off x="7207200" y="56901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4"/>
            <p:cNvSpPr/>
            <p:nvPr/>
          </p:nvSpPr>
          <p:spPr>
            <a:xfrm>
              <a:off x="7061040" y="58248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5"/>
            <p:cNvSpPr/>
            <p:nvPr/>
          </p:nvSpPr>
          <p:spPr>
            <a:xfrm>
              <a:off x="6724800" y="57394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6"/>
            <p:cNvSpPr/>
            <p:nvPr/>
          </p:nvSpPr>
          <p:spPr>
            <a:xfrm>
              <a:off x="6724800" y="58737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7"/>
            <p:cNvSpPr/>
            <p:nvPr/>
          </p:nvSpPr>
          <p:spPr>
            <a:xfrm>
              <a:off x="7714080" y="55558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8"/>
            <p:cNvSpPr/>
            <p:nvPr/>
          </p:nvSpPr>
          <p:spPr>
            <a:xfrm>
              <a:off x="7759800" y="56916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9"/>
            <p:cNvSpPr/>
            <p:nvPr/>
          </p:nvSpPr>
          <p:spPr>
            <a:xfrm>
              <a:off x="7461000" y="58248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50"/>
            <p:cNvSpPr/>
            <p:nvPr/>
          </p:nvSpPr>
          <p:spPr>
            <a:xfrm>
              <a:off x="8616960" y="56916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51"/>
            <p:cNvSpPr/>
            <p:nvPr/>
          </p:nvSpPr>
          <p:spPr>
            <a:xfrm>
              <a:off x="8194320" y="58248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52"/>
            <p:cNvSpPr/>
            <p:nvPr/>
          </p:nvSpPr>
          <p:spPr>
            <a:xfrm>
              <a:off x="8194320" y="57394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53"/>
            <p:cNvSpPr/>
            <p:nvPr/>
          </p:nvSpPr>
          <p:spPr>
            <a:xfrm>
              <a:off x="4827240" y="26164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yriad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54"/>
            <p:cNvSpPr/>
            <p:nvPr/>
          </p:nvSpPr>
          <p:spPr>
            <a:xfrm>
              <a:off x="4558680" y="3765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5"/>
            <p:cNvSpPr/>
            <p:nvPr/>
          </p:nvSpPr>
          <p:spPr>
            <a:xfrm>
              <a:off x="4597200" y="4941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56"/>
            <p:cNvSpPr/>
            <p:nvPr/>
          </p:nvSpPr>
          <p:spPr>
            <a:xfrm>
              <a:off x="3962520" y="2889000"/>
              <a:ext cx="8488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venience Foo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7"/>
            <p:cNvSpPr/>
            <p:nvPr/>
          </p:nvSpPr>
          <p:spPr>
            <a:xfrm>
              <a:off x="3962520" y="2311560"/>
              <a:ext cx="94284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iet/Functional/Organic Foo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58"/>
            <p:cNvSpPr/>
            <p:nvPr/>
          </p:nvSpPr>
          <p:spPr>
            <a:xfrm>
              <a:off x="3962520" y="3447000"/>
              <a:ext cx="10814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nacks/Prepared Mea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9"/>
            <p:cNvSpPr/>
            <p:nvPr/>
          </p:nvSpPr>
          <p:spPr>
            <a:xfrm>
              <a:off x="4010400" y="4835520"/>
              <a:ext cx="84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rbohydrate Sta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0"/>
            <p:cNvSpPr/>
            <p:nvPr/>
          </p:nvSpPr>
          <p:spPr>
            <a:xfrm>
              <a:off x="4997880" y="5428080"/>
              <a:ext cx="7045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urviv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1"/>
            <p:cNvSpPr/>
            <p:nvPr/>
          </p:nvSpPr>
          <p:spPr>
            <a:xfrm>
              <a:off x="5702760" y="5428080"/>
              <a:ext cx="7088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ss Mark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62"/>
            <p:cNvSpPr/>
            <p:nvPr/>
          </p:nvSpPr>
          <p:spPr>
            <a:xfrm>
              <a:off x="6314400" y="5428080"/>
              <a:ext cx="103824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venience Food Service Snack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63"/>
            <p:cNvSpPr/>
            <p:nvPr/>
          </p:nvSpPr>
          <p:spPr>
            <a:xfrm>
              <a:off x="7303680" y="5429520"/>
              <a:ext cx="7048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Quality Hygie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64"/>
            <p:cNvSpPr/>
            <p:nvPr/>
          </p:nvSpPr>
          <p:spPr>
            <a:xfrm>
              <a:off x="8056800" y="5429520"/>
              <a:ext cx="8470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 Technolog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5"/>
            <p:cNvSpPr/>
            <p:nvPr/>
          </p:nvSpPr>
          <p:spPr>
            <a:xfrm>
              <a:off x="5094000" y="4812120"/>
              <a:ext cx="79596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Africa (Sub- Sahar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66"/>
            <p:cNvSpPr/>
            <p:nvPr/>
          </p:nvSpPr>
          <p:spPr>
            <a:xfrm>
              <a:off x="5797800" y="3787920"/>
              <a:ext cx="117432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India, China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Latin Amer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7"/>
            <p:cNvSpPr/>
            <p:nvPr/>
          </p:nvSpPr>
          <p:spPr>
            <a:xfrm>
              <a:off x="6551640" y="3011760"/>
              <a:ext cx="11772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Easter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Euro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68"/>
            <p:cNvSpPr/>
            <p:nvPr/>
          </p:nvSpPr>
          <p:spPr>
            <a:xfrm>
              <a:off x="7869600" y="2456280"/>
              <a:ext cx="1174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N. America, Japan, W. Europe, Austral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9"/>
            <p:cNvSpPr/>
            <p:nvPr/>
          </p:nvSpPr>
          <p:spPr>
            <a:xfrm>
              <a:off x="4997880" y="3943080"/>
              <a:ext cx="3947040" cy="108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here has been a sharp decline in the availability of key commod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3840" y="1676520"/>
            <a:ext cx="89438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ensurate increase in food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food capacity reduced by explosion in biofuels with oil pric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on of corn for ethanol production in recent years (the &gt;100$/barrel e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il prices have firmed up again (&gt;7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fuels set to consume 30% of US corn b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is at a premium and has impact on capital formation in agriculture in the short/medium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i infrastructure projects – Project fi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S in Agriculture – Business lo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ers – Crop lo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s badly affected as other sectors and long term prospect for investments in agriculture sector looks go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food productivity reduced as environment chan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 security a major iss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ous droughts (in Australia, India and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 capita arable land availability has been an 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629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06:42:30Z</dcterms:created>
  <dc:creator>PRE0000397</dc:creator>
  <dc:description/>
  <dc:language>en-US</dc:language>
  <cp:lastModifiedBy>Lindie</cp:lastModifiedBy>
  <dcterms:modified xsi:type="dcterms:W3CDTF">2009-06-22T09:30:43Z</dcterms:modified>
  <cp:revision>53</cp:revision>
  <dc:subject/>
  <dc:title>IFFCO-GPC KISAN SEZ - NELLORE</dc:title>
</cp:coreProperties>
</file>